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C82-DC91-4F94-A3F6-3119DDB2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nies do we want?  White on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C45C-462E-4B84-875B-41A98760A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7578-22D4-4EB5-B69C-1F937791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B4FA-08F1-4AD6-8E9A-D33C074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353C-F8A5-491F-8ED3-C91D353EF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D600-8115-46DD-8954-39DFBF59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716A-4672-4F8D-97C8-43A35F0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3217-CA59-496D-AA89-2DC0935D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F516-E190-45A9-B294-4D7CEF60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C59A-A41E-4F3D-AA2D-E39BB229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4590-50C9-4D48-8A51-95CEC67F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CF27-65D8-41FB-B8EB-8C69F650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8E0E-6F30-4FC5-9742-D840A6B4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9703-6385-4314-9FF4-0E633FE207DA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51751" t="2252" r="6750" b="55504"/>
          <a:stretch/>
        </p:blipFill>
        <p:spPr>
          <a:xfrm>
            <a:off x="228600" y="457200"/>
            <a:ext cx="3048120" cy="232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657600" cy="2822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9718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otech Tools Re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155A-C738-42D1-AD8F-A02162001F5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f I want to locate a sequence on an electrophoresis gel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uthern blo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gged prob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51751" t="2252" r="6750" b="55504"/>
          <a:stretch/>
        </p:blipFill>
        <p:spPr>
          <a:xfrm>
            <a:off x="533520" y="4038480"/>
            <a:ext cx="3539880" cy="2705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064040" y="2873520"/>
            <a:ext cx="5003640" cy="3832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534520" y="6400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B4D3-6C11-43F8-8192-9DB1112C297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test effect of drug on gene expression in pancrea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icroarra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mR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RNA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ybridize on GeneChi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62520" y="5105520"/>
            <a:ext cx="5029200" cy="1104840"/>
            <a:chOff x="3962520" y="5105520"/>
            <a:chExt cx="5029200" cy="1104840"/>
          </a:xfrm>
        </p:grpSpPr>
        <p:sp>
          <p:nvSpPr>
            <p:cNvPr id="315" name=""/>
            <p:cNvSpPr/>
            <p:nvPr/>
          </p:nvSpPr>
          <p:spPr>
            <a:xfrm>
              <a:off x="3962520" y="5143680"/>
              <a:ext cx="5029200" cy="1066680"/>
            </a:xfrm>
            <a:custGeom>
              <a:avLst/>
              <a:gdLst/>
              <a:ahLst/>
              <a:rect l="l" t="t" r="r" b="b"/>
              <a:pathLst>
                <a:path w="3024" h="720">
                  <a:moveTo>
                    <a:pt x="624" y="48"/>
                  </a:moveTo>
                  <a:lnTo>
                    <a:pt x="0" y="720"/>
                  </a:lnTo>
                  <a:lnTo>
                    <a:pt x="2448" y="720"/>
                  </a:lnTo>
                  <a:lnTo>
                    <a:pt x="3024" y="0"/>
                  </a:lnTo>
                  <a:lnTo>
                    <a:pt x="672" y="0"/>
                  </a:lnTo>
                  <a:lnTo>
                    <a:pt x="0" y="720"/>
                  </a:lnTo>
                </a:path>
              </a:pathLst>
            </a:custGeom>
            <a:solidFill>
              <a:srgbClr val="40458c"/>
            </a:solidFill>
            <a:ln w="28440">
              <a:solidFill>
                <a:srgbClr val="40458c"/>
              </a:solidFill>
              <a:round/>
            </a:ln>
            <a:effectLst>
              <a:outerShdw dist="36147" dir="2700000" blurRad="0" rotWithShape="0">
                <a:srgbClr val="0f11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62520" y="5105520"/>
              <a:ext cx="5029200" cy="1066680"/>
            </a:xfrm>
            <a:custGeom>
              <a:avLst/>
              <a:gdLst/>
              <a:ahLst/>
              <a:rect l="l" t="t" r="r" b="b"/>
              <a:pathLst>
                <a:path w="3024" h="720">
                  <a:moveTo>
                    <a:pt x="624" y="48"/>
                  </a:moveTo>
                  <a:lnTo>
                    <a:pt x="0" y="720"/>
                  </a:lnTo>
                  <a:lnTo>
                    <a:pt x="2448" y="720"/>
                  </a:lnTo>
                  <a:lnTo>
                    <a:pt x="3024" y="0"/>
                  </a:lnTo>
                  <a:lnTo>
                    <a:pt x="672" y="0"/>
                  </a:lnTo>
                  <a:lnTo>
                    <a:pt x="0" y="720"/>
                  </a:lnTo>
                </a:path>
              </a:pathLst>
            </a:custGeom>
            <a:solidFill>
              <a:srgbClr val="6f89f7"/>
            </a:solidFill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7800" y="52578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14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292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52880" y="55627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006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5791320"/>
              <a:ext cx="15264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83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59436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864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00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41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57800" y="54864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055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150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28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06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50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8680" y="5334120"/>
              <a:ext cx="152640" cy="7596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00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4120" y="563868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578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4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055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59436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43600" y="52578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91320" y="54100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50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55627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627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64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00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4120" y="58672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578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99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436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672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13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150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5791320"/>
              <a:ext cx="152640" cy="7596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008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4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8520" y="54100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672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58672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000" y="59436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52578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530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771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54864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72200" y="57150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58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199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36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80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816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057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530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771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008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244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8520" y="586728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59436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66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02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34320" y="54100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816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057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94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57913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71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008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38880" y="5334120"/>
              <a:ext cx="15264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29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6600" y="54864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343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05720" y="586728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94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674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15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15200" y="54864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88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629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66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0280" y="5791320"/>
              <a:ext cx="15264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343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59436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72400" y="525780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60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201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438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674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91520" y="56386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152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38880" y="5791320"/>
              <a:ext cx="152640" cy="75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629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66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01000" y="52578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246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487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72400" y="54864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96080" y="55627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01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3800" y="57150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674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867280"/>
              <a:ext cx="152280" cy="763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94360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9600" y="52578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53280" y="53341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7320" y="54100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01000" y="54864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24680" y="5562720"/>
              <a:ext cx="152640" cy="7596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56386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72400" y="5715000"/>
              <a:ext cx="152280" cy="76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6080" y="5791320"/>
              <a:ext cx="152640" cy="7596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0120" y="5867280"/>
              <a:ext cx="152280" cy="76320"/>
            </a:xfrm>
            <a:prstGeom prst="ellipse">
              <a:avLst/>
            </a:prstGeom>
            <a:solidFill>
              <a:srgbClr val="01010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43800" y="5943600"/>
              <a:ext cx="15228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87200" y="4419720"/>
            <a:ext cx="3699000" cy="2377440"/>
            <a:chOff x="187200" y="4419720"/>
            <a:chExt cx="3699000" cy="2377440"/>
          </a:xfrm>
        </p:grpSpPr>
        <p:grpSp>
          <p:nvGrpSpPr>
            <p:cNvPr id="458" name=""/>
            <p:cNvGrpSpPr/>
            <p:nvPr/>
          </p:nvGrpSpPr>
          <p:grpSpPr>
            <a:xfrm>
              <a:off x="187200" y="4419720"/>
              <a:ext cx="3699000" cy="1158120"/>
              <a:chOff x="187200" y="4419720"/>
              <a:chExt cx="3699000" cy="1158120"/>
            </a:xfrm>
          </p:grpSpPr>
          <p:pic>
            <p:nvPicPr>
              <p:cNvPr id="459" name="" descr=""/>
              <p:cNvPicPr/>
              <p:nvPr/>
            </p:nvPicPr>
            <p:blipFill>
              <a:blip r:embed="rId1"/>
              <a:srcRect l="28988" t="10803" r="10682" b="74406"/>
              <a:stretch/>
            </p:blipFill>
            <p:spPr>
              <a:xfrm>
                <a:off x="187200" y="4419720"/>
                <a:ext cx="3699000" cy="11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1330200" y="5425920"/>
                <a:ext cx="152280" cy="151920"/>
              </a:xfrm>
              <a:prstGeom prst="rect">
                <a:avLst/>
              </a:prstGeom>
              <a:solidFill>
                <a:srgbClr val="d3e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53880" y="4419720"/>
                <a:ext cx="228600" cy="209160"/>
              </a:xfrm>
              <a:prstGeom prst="rect">
                <a:avLst/>
              </a:prstGeom>
              <a:solidFill>
                <a:srgbClr val="d3e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462" name="" descr=""/>
            <p:cNvPicPr/>
            <p:nvPr/>
          </p:nvPicPr>
          <p:blipFill>
            <a:blip r:embed="rId2"/>
            <a:srcRect l="28988" t="32403" r="10682" b="51603"/>
            <a:stretch/>
          </p:blipFill>
          <p:spPr>
            <a:xfrm>
              <a:off x="187200" y="5545080"/>
              <a:ext cx="3699000" cy="12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30200" y="6645240"/>
              <a:ext cx="152280" cy="151920"/>
            </a:xfrm>
            <a:prstGeom prst="rect">
              <a:avLst/>
            </a:prstGeom>
            <a:solidFill>
              <a:srgbClr val="d3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53880" y="5425920"/>
              <a:ext cx="228600" cy="456840"/>
            </a:xfrm>
            <a:prstGeom prst="rect">
              <a:avLst/>
            </a:prstGeom>
            <a:solidFill>
              <a:srgbClr val="d3e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53880" y="5425920"/>
              <a:ext cx="0" cy="4568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246-8EA2-405E-A6F7-7B7E7BC15D2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DC09-E8F3-42C9-BDC4-2553D3BCF09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otech Tools Re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combinant DNA / Cloning ge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striction enzyme, plasmids, bacte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librar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DNA librar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NA hybridiz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l electrophore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FLP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outhern blotting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C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anger sequencing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icroarra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4554360"/>
            <a:ext cx="40388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622" t="3000" r="6750" b="3000"/>
          <a:stretch/>
        </p:blipFill>
        <p:spPr>
          <a:xfrm>
            <a:off x="2633760" y="4114800"/>
            <a:ext cx="3004920" cy="241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28129" t="3000" r="33751" b="0"/>
          <a:stretch/>
        </p:blipFill>
        <p:spPr>
          <a:xfrm>
            <a:off x="0" y="2021040"/>
            <a:ext cx="2532240" cy="4836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nd your ge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mRNA from pancreas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to do with the mRNA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28988" t="1802" r="10682" b="74406"/>
          <a:stretch/>
        </p:blipFill>
        <p:spPr>
          <a:xfrm>
            <a:off x="6019920" y="4572000"/>
            <a:ext cx="3047760" cy="153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38280" y="51814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51814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5943600"/>
            <a:ext cx="152280" cy="152280"/>
          </a:xfrm>
          <a:prstGeom prst="rect">
            <a:avLst/>
          </a:prstGeom>
          <a:solidFill>
            <a:srgbClr val="d3e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577A-6049-4F18-A9C9-86B5CAD478A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to do with the mRNA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ke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RN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D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verse transcriptas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sert cDNA into bacteria using plasm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striction enzym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igas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ransformation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 you find which bacteria carry the recombinant plasmids?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905120"/>
            <a:ext cx="3123720" cy="1922400"/>
            <a:chOff x="6019920" y="1905120"/>
            <a:chExt cx="3123720" cy="19224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18000" t="12000" r="20250" b="33000"/>
            <a:stretch/>
          </p:blipFill>
          <p:spPr>
            <a:xfrm>
              <a:off x="6267240" y="1905120"/>
              <a:ext cx="28764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019920" y="3513960"/>
              <a:ext cx="37116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0680" y="2337840"/>
              <a:ext cx="371160" cy="12384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95680" y="2833200"/>
              <a:ext cx="371160" cy="123480"/>
            </a:xfrm>
            <a:prstGeom prst="ellipse">
              <a:avLst/>
            </a:prstGeom>
            <a:solidFill>
              <a:srgbClr val="7f502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8360" y="3142800"/>
              <a:ext cx="371160" cy="123480"/>
            </a:xfrm>
            <a:prstGeom prst="ellipse">
              <a:avLst/>
            </a:prstGeom>
            <a:solidFill>
              <a:srgbClr val="4dff5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9880" y="2400120"/>
              <a:ext cx="371160" cy="123480"/>
            </a:xfrm>
            <a:prstGeom prst="ellipse">
              <a:avLst/>
            </a:prstGeom>
            <a:solidFill>
              <a:srgbClr val="76ea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76840" y="2585520"/>
              <a:ext cx="371160" cy="123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90680" y="2709360"/>
              <a:ext cx="371160" cy="123840"/>
            </a:xfrm>
            <a:prstGeom prst="ellipse">
              <a:avLst/>
            </a:prstGeom>
            <a:solidFill>
              <a:srgbClr val="526d9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57200" y="2647440"/>
              <a:ext cx="371160" cy="123480"/>
            </a:xfrm>
            <a:prstGeom prst="ellipse">
              <a:avLst/>
            </a:prstGeom>
            <a:solidFill>
              <a:srgbClr val="ff55f5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86080" y="3142800"/>
              <a:ext cx="371160" cy="123480"/>
            </a:xfrm>
            <a:prstGeom prst="ellipse">
              <a:avLst/>
            </a:prstGeom>
            <a:solidFill>
              <a:srgbClr val="2c851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3760" y="2585520"/>
              <a:ext cx="371160" cy="1234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0680" y="2709360"/>
              <a:ext cx="371160" cy="123840"/>
            </a:xfrm>
            <a:prstGeom prst="ellipse">
              <a:avLst/>
            </a:prstGeom>
            <a:solidFill>
              <a:srgbClr val="ef6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81440" y="3204720"/>
              <a:ext cx="432720" cy="1854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6440" y="2156400"/>
              <a:ext cx="371160" cy="12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1840" y="2311200"/>
              <a:ext cx="401040" cy="14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D69E-1D20-4543-B909-0B620A7A39B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 you find which bacteria carry the recombinant plasmid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am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resistance gene on plasm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LacZ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ene plasm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02120" y="3731040"/>
            <a:ext cx="3574080" cy="3574080"/>
            <a:chOff x="1302120" y="3731040"/>
            <a:chExt cx="3574080" cy="3574080"/>
          </a:xfrm>
        </p:grpSpPr>
        <p:grpSp>
          <p:nvGrpSpPr>
            <p:cNvPr id="142" name=""/>
            <p:cNvGrpSpPr/>
            <p:nvPr/>
          </p:nvGrpSpPr>
          <p:grpSpPr>
            <a:xfrm>
              <a:off x="1302120" y="3731040"/>
              <a:ext cx="3574080" cy="3574080"/>
              <a:chOff x="1302120" y="3731040"/>
              <a:chExt cx="3574080" cy="3574080"/>
            </a:xfrm>
          </p:grpSpPr>
          <p:sp>
            <p:nvSpPr>
              <p:cNvPr id="143" name=""/>
              <p:cNvSpPr/>
              <p:nvPr/>
            </p:nvSpPr>
            <p:spPr>
              <a:xfrm>
                <a:off x="2614680" y="52858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plasmid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27240" y="5867280"/>
                <a:ext cx="9381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c8516"/>
                    </a:solidFill>
                    <a:latin typeface="Arial"/>
                  </a:rPr>
                  <a:t>amp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c8516"/>
                    </a:solidFill>
                    <a:latin typeface="Arial"/>
                  </a:rPr>
                  <a:t>resistanc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8200" y="4647600"/>
                <a:ext cx="118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f116a"/>
                    </a:solidFill>
                    <a:latin typeface="Arial"/>
                  </a:rPr>
                  <a:t>LacZ gen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9000000">
                <a:off x="1825560" y="4254480"/>
                <a:ext cx="2527200" cy="2527200"/>
              </a:xfrm>
              <a:prstGeom prst="blockArc">
                <a:avLst>
                  <a:gd name="adj1" fmla="val 6167782"/>
                  <a:gd name="adj2" fmla="val 4632218"/>
                  <a:gd name="adj3" fmla="val 9787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900000">
                <a:off x="1825200" y="4254120"/>
                <a:ext cx="2527200" cy="2527200"/>
              </a:xfrm>
              <a:prstGeom prst="blockArc">
                <a:avLst>
                  <a:gd name="adj1" fmla="val 12181256"/>
                  <a:gd name="adj2" fmla="val 20218744"/>
                  <a:gd name="adj3" fmla="val 9810"/>
                </a:avLst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8100000">
                <a:off x="1825560" y="4254480"/>
                <a:ext cx="2527200" cy="2527200"/>
              </a:xfrm>
              <a:prstGeom prst="blockArc">
                <a:avLst>
                  <a:gd name="adj1" fmla="val 14237285"/>
                  <a:gd name="adj2" fmla="val 18162715"/>
                  <a:gd name="adj3" fmla="val 9685"/>
                </a:avLst>
              </a:prstGeom>
              <a:solidFill>
                <a:srgbClr val="2c8516"/>
              </a:solidFill>
              <a:ln w="9360">
                <a:solidFill>
                  <a:srgbClr val="2c8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500000">
                <a:off x="1825560" y="4254480"/>
                <a:ext cx="2527200" cy="2527200"/>
              </a:xfrm>
              <a:prstGeom prst="blockArc">
                <a:avLst>
                  <a:gd name="adj1" fmla="val 15577148"/>
                  <a:gd name="adj2" fmla="val 16822852"/>
                  <a:gd name="adj3" fmla="val 9741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14720" y="415440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483360" y="4270320"/>
                <a:ext cx="154800" cy="36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810240" y="4636080"/>
                <a:ext cx="293040" cy="26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98400" y="4291200"/>
                <a:ext cx="140400" cy="37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55400" y="4439880"/>
                <a:ext cx="232560" cy="32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212560" y="4037760"/>
              <a:ext cx="53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4640" y="42663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Bam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0280" y="4419000"/>
              <a:ext cx="56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in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I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572000" y="4284720"/>
            <a:ext cx="3809520" cy="2344680"/>
            <a:chOff x="4572000" y="4284720"/>
            <a:chExt cx="3809520" cy="234468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rcRect l="18000" t="12000" r="20250" b="33000"/>
            <a:stretch/>
          </p:blipFill>
          <p:spPr>
            <a:xfrm>
              <a:off x="4873320" y="4284720"/>
              <a:ext cx="350820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0" y="6247080"/>
              <a:ext cx="45216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9960" y="4813560"/>
              <a:ext cx="45216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5160" y="5416560"/>
              <a:ext cx="45360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1640" y="5794560"/>
              <a:ext cx="4521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64160" y="4888080"/>
              <a:ext cx="45216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1320" y="5115240"/>
              <a:ext cx="45180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09960" y="5266080"/>
              <a:ext cx="452160" cy="150480"/>
            </a:xfrm>
            <a:prstGeom prst="ellipse">
              <a:avLst/>
            </a:prstGeom>
            <a:solidFill>
              <a:srgbClr val="526d9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5840" y="5191200"/>
              <a:ext cx="45360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8960" y="5794560"/>
              <a:ext cx="4521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30640" y="5115240"/>
              <a:ext cx="452160" cy="1508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32320" y="5870880"/>
              <a:ext cx="528120" cy="2253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35680" y="4591080"/>
              <a:ext cx="45360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54320" y="4780080"/>
              <a:ext cx="488880" cy="1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B34-CCB0-4C7D-9A24-1323F64C284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733920" y="3733920"/>
            <a:ext cx="5333760" cy="3066840"/>
            <a:chOff x="3733920" y="3733920"/>
            <a:chExt cx="5333760" cy="3066840"/>
          </a:xfrm>
        </p:grpSpPr>
        <p:grpSp>
          <p:nvGrpSpPr>
            <p:cNvPr id="175" name=""/>
            <p:cNvGrpSpPr/>
            <p:nvPr/>
          </p:nvGrpSpPr>
          <p:grpSpPr>
            <a:xfrm>
              <a:off x="3733920" y="3733920"/>
              <a:ext cx="5333760" cy="3066840"/>
              <a:chOff x="3733920" y="3733920"/>
              <a:chExt cx="5333760" cy="30668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3733920" y="3733920"/>
                <a:ext cx="5333760" cy="3066840"/>
                <a:chOff x="3733920" y="3733920"/>
                <a:chExt cx="5333760" cy="306684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3733920" y="3733920"/>
                  <a:ext cx="5333760" cy="3066840"/>
                  <a:chOff x="3733920" y="3733920"/>
                  <a:chExt cx="5333760" cy="306684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3733920" y="3733920"/>
                    <a:ext cx="5333760" cy="3066840"/>
                    <a:chOff x="3733920" y="3733920"/>
                    <a:chExt cx="5333760" cy="3066840"/>
                  </a:xfrm>
                </p:grpSpPr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"/>
                    <a:srcRect l="12378" t="15000" r="2250" b="19504"/>
                    <a:stretch/>
                  </p:blipFill>
                  <p:spPr>
                    <a:xfrm>
                      <a:off x="3733920" y="3733920"/>
                      <a:ext cx="5333760" cy="30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733920" y="3835440"/>
                      <a:ext cx="2033280" cy="547560"/>
                    </a:xfrm>
                    <a:prstGeom prst="rect">
                      <a:avLst/>
                    </a:prstGeom>
                    <a:solidFill>
                      <a:srgbClr val="e2e9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733920" y="4548240"/>
                      <a:ext cx="115560" cy="711000"/>
                    </a:xfrm>
                    <a:prstGeom prst="rect">
                      <a:avLst/>
                    </a:prstGeom>
                    <a:solidFill>
                      <a:srgbClr val="e2e9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3768480" y="4959360"/>
                      <a:ext cx="89676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6" h="163">
                          <a:moveTo>
                            <a:pt x="764" y="72"/>
                          </a:moveTo>
                          <a:cubicBezTo>
                            <a:pt x="755" y="106"/>
                            <a:pt x="680" y="118"/>
                            <a:pt x="644" y="120"/>
                          </a:cubicBezTo>
                          <a:cubicBezTo>
                            <a:pt x="551" y="122"/>
                            <a:pt x="458" y="122"/>
                            <a:pt x="366" y="124"/>
                          </a:cubicBezTo>
                          <a:cubicBezTo>
                            <a:pt x="296" y="138"/>
                            <a:pt x="232" y="152"/>
                            <a:pt x="160" y="158"/>
                          </a:cubicBezTo>
                          <a:cubicBezTo>
                            <a:pt x="110" y="152"/>
                            <a:pt x="58" y="163"/>
                            <a:pt x="11" y="148"/>
                          </a:cubicBezTo>
                          <a:cubicBezTo>
                            <a:pt x="0" y="144"/>
                            <a:pt x="2" y="115"/>
                            <a:pt x="2" y="115"/>
                          </a:cubicBezTo>
                          <a:cubicBezTo>
                            <a:pt x="3" y="89"/>
                            <a:pt x="1" y="63"/>
                            <a:pt x="7" y="38"/>
                          </a:cubicBezTo>
                          <a:cubicBezTo>
                            <a:pt x="8" y="32"/>
                            <a:pt x="15" y="29"/>
                            <a:pt x="21" y="29"/>
                          </a:cubicBezTo>
                          <a:cubicBezTo>
                            <a:pt x="28" y="28"/>
                            <a:pt x="212" y="37"/>
                            <a:pt x="213" y="38"/>
                          </a:cubicBezTo>
                          <a:cubicBezTo>
                            <a:pt x="352" y="30"/>
                            <a:pt x="487" y="14"/>
                            <a:pt x="625" y="0"/>
                          </a:cubicBezTo>
                          <a:cubicBezTo>
                            <a:pt x="684" y="3"/>
                            <a:pt x="719" y="9"/>
                            <a:pt x="773" y="19"/>
                          </a:cubicBezTo>
                          <a:cubicBezTo>
                            <a:pt x="786" y="38"/>
                            <a:pt x="783" y="44"/>
                            <a:pt x="764" y="57"/>
                          </a:cubicBezTo>
                          <a:cubicBezTo>
                            <a:pt x="768" y="73"/>
                            <a:pt x="773" y="72"/>
                            <a:pt x="764" y="72"/>
                          </a:cubicBezTo>
                          <a:close/>
                        </a:path>
                      </a:pathLst>
                    </a:custGeom>
                    <a:solidFill>
                      <a:srgbClr val="e2e9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" name=""/>
                  <p:cNvSpPr/>
                  <p:nvPr/>
                </p:nvSpPr>
                <p:spPr>
                  <a:xfrm>
                    <a:off x="3733920" y="4329000"/>
                    <a:ext cx="937800" cy="711360"/>
                  </a:xfrm>
                  <a:prstGeom prst="rect">
                    <a:avLst/>
                  </a:prstGeom>
                  <a:solidFill>
                    <a:srgbClr val="e2e9f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4571640" y="5022720"/>
                  <a:ext cx="85320" cy="69840"/>
                </a:xfrm>
                <a:custGeom>
                  <a:avLst/>
                  <a:gdLst/>
                  <a:ahLst/>
                  <a:rect l="l" t="t" r="r" b="b"/>
                  <a:pathLst>
                    <a:path w="75" h="61">
                      <a:moveTo>
                        <a:pt x="64" y="11"/>
                      </a:moveTo>
                      <a:cubicBezTo>
                        <a:pt x="58" y="55"/>
                        <a:pt x="56" y="61"/>
                        <a:pt x="7" y="44"/>
                      </a:cubicBezTo>
                      <a:cubicBezTo>
                        <a:pt x="20" y="6"/>
                        <a:pt x="0" y="50"/>
                        <a:pt x="26" y="25"/>
                      </a:cubicBezTo>
                      <a:cubicBezTo>
                        <a:pt x="50" y="0"/>
                        <a:pt x="2" y="18"/>
                        <a:pt x="50" y="6"/>
                      </a:cubicBezTo>
                      <a:cubicBezTo>
                        <a:pt x="70" y="11"/>
                        <a:pt x="75" y="11"/>
                        <a:pt x="64" y="11"/>
                      </a:cubicBezTo>
                      <a:close/>
                    </a:path>
                  </a:pathLst>
                </a:custGeom>
                <a:solidFill>
                  <a:srgbClr val="e2e9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733920" y="6027840"/>
                <a:ext cx="2184120" cy="766800"/>
              </a:xfrm>
              <a:prstGeom prst="rect">
                <a:avLst/>
              </a:prstGeom>
              <a:solidFill>
                <a:srgbClr val="e2e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6933960" y="3835440"/>
              <a:ext cx="2133360" cy="547560"/>
            </a:xfrm>
            <a:prstGeom prst="rect">
              <a:avLst/>
            </a:prstGeom>
            <a:solidFill>
              <a:srgbClr val="e2e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3960" y="6019920"/>
              <a:ext cx="2133360" cy="761760"/>
            </a:xfrm>
            <a:prstGeom prst="rect">
              <a:avLst/>
            </a:prstGeom>
            <a:solidFill>
              <a:srgbClr val="e2e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produce human insulin cheaply for diab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 you find which bacteria carry the insulin gene on the plasmid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ke an insulin gene prob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agged prob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ybridiz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73800" y="4902840"/>
            <a:ext cx="3795480" cy="1041480"/>
            <a:chOff x="-73800" y="4902840"/>
            <a:chExt cx="3795480" cy="1041480"/>
          </a:xfrm>
        </p:grpSpPr>
        <p:sp>
          <p:nvSpPr>
            <p:cNvPr id="191" name=""/>
            <p:cNvSpPr/>
            <p:nvPr/>
          </p:nvSpPr>
          <p:spPr>
            <a:xfrm>
              <a:off x="3403800" y="5644440"/>
              <a:ext cx="317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5"/>
                  </a:solidFill>
                  <a:latin typeface="Arial"/>
                </a:rPr>
                <a:t>5’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760" y="5652360"/>
              <a:ext cx="317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5"/>
                  </a:solidFill>
                  <a:latin typeface="Arial"/>
                </a:rPr>
                <a:t>3’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040" y="5731920"/>
              <a:ext cx="3072600" cy="94680"/>
            </a:xfrm>
            <a:prstGeom prst="rect">
              <a:avLst/>
            </a:prstGeom>
            <a:solidFill>
              <a:srgbClr val="66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044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71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930600" y="5472720"/>
              <a:ext cx="94680" cy="252360"/>
              <a:chOff x="930600" y="5472720"/>
              <a:chExt cx="94680" cy="252360"/>
            </a:xfrm>
          </p:grpSpPr>
          <p:sp>
            <p:nvSpPr>
              <p:cNvPr id="197" name=""/>
              <p:cNvSpPr/>
              <p:nvPr/>
            </p:nvSpPr>
            <p:spPr>
              <a:xfrm flipH="1" flipV="1" rot="10800000">
                <a:off x="93024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 rot="10800000">
                <a:off x="93024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184040" y="5472720"/>
              <a:ext cx="94680" cy="252360"/>
              <a:chOff x="1184040" y="5472720"/>
              <a:chExt cx="94680" cy="252360"/>
            </a:xfrm>
          </p:grpSpPr>
          <p:sp>
            <p:nvSpPr>
              <p:cNvPr id="200" name=""/>
              <p:cNvSpPr/>
              <p:nvPr/>
            </p:nvSpPr>
            <p:spPr>
              <a:xfrm flipH="1" flipV="1" rot="10800000">
                <a:off x="118368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 rot="10800000">
                <a:off x="118368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43748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732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690920" y="5472720"/>
              <a:ext cx="94680" cy="252360"/>
              <a:chOff x="1690920" y="5472720"/>
              <a:chExt cx="94680" cy="252360"/>
            </a:xfrm>
          </p:grpSpPr>
          <p:sp>
            <p:nvSpPr>
              <p:cNvPr id="205" name=""/>
              <p:cNvSpPr/>
              <p:nvPr/>
            </p:nvSpPr>
            <p:spPr>
              <a:xfrm flipH="1" flipV="1" rot="10800000">
                <a:off x="169056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 rot="10800000">
                <a:off x="169056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81764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107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108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97800" y="5472720"/>
              <a:ext cx="94680" cy="252360"/>
              <a:chOff x="2197800" y="5472720"/>
              <a:chExt cx="94680" cy="252360"/>
            </a:xfrm>
          </p:grpSpPr>
          <p:sp>
            <p:nvSpPr>
              <p:cNvPr id="211" name=""/>
              <p:cNvSpPr/>
              <p:nvPr/>
            </p:nvSpPr>
            <p:spPr>
              <a:xfrm flipH="1" flipV="1" rot="10800000">
                <a:off x="219744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 rot="10800000">
                <a:off x="219744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245124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79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831400" y="5472720"/>
              <a:ext cx="94680" cy="252360"/>
              <a:chOff x="2831400" y="5472720"/>
              <a:chExt cx="94680" cy="252360"/>
            </a:xfrm>
          </p:grpSpPr>
          <p:sp>
            <p:nvSpPr>
              <p:cNvPr id="216" name=""/>
              <p:cNvSpPr/>
              <p:nvPr/>
            </p:nvSpPr>
            <p:spPr>
              <a:xfrm flipH="1" flipV="1" rot="10800000">
                <a:off x="2831040" y="5504040"/>
                <a:ext cx="94680" cy="2210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 rot="10800000">
                <a:off x="2831040" y="5472360"/>
                <a:ext cx="94680" cy="94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95812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4840" y="5504040"/>
              <a:ext cx="94680" cy="221040"/>
            </a:xfrm>
            <a:prstGeom prst="rect">
              <a:avLst/>
            </a:prstGeom>
            <a:solidFill>
              <a:srgbClr val="006604"/>
            </a:solidFill>
            <a:ln w="9360">
              <a:solidFill>
                <a:srgbClr val="006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11560" y="5504040"/>
              <a:ext cx="94680" cy="221040"/>
            </a:xfrm>
            <a:prstGeom prst="rect">
              <a:avLst/>
            </a:prstGeom>
            <a:solidFill>
              <a:srgbClr val="0f116a"/>
            </a:solidFill>
            <a:ln w="93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437480" y="5131440"/>
              <a:ext cx="1108800" cy="347400"/>
              <a:chOff x="1437480" y="5131440"/>
              <a:chExt cx="1108800" cy="347400"/>
            </a:xfrm>
          </p:grpSpPr>
          <p:sp>
            <p:nvSpPr>
              <p:cNvPr id="222" name=""/>
              <p:cNvSpPr/>
              <p:nvPr/>
            </p:nvSpPr>
            <p:spPr>
              <a:xfrm>
                <a:off x="1817640" y="5226120"/>
                <a:ext cx="95040" cy="221400"/>
              </a:xfrm>
              <a:prstGeom prst="rect">
                <a:avLst/>
              </a:prstGeom>
              <a:solidFill>
                <a:srgbClr val="006604"/>
              </a:solidFill>
              <a:ln w="9360">
                <a:solidFill>
                  <a:srgbClr val="0066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324520" y="5226480"/>
                <a:ext cx="95040" cy="252360"/>
                <a:chOff x="2324520" y="5226480"/>
                <a:chExt cx="95040" cy="25236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10800000">
                  <a:off x="2324520" y="5226480"/>
                  <a:ext cx="95040" cy="22104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10800000">
                  <a:off x="2324520" y="5384160"/>
                  <a:ext cx="95040" cy="9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944360" y="5226480"/>
                <a:ext cx="95040" cy="252360"/>
                <a:chOff x="1944360" y="5226480"/>
                <a:chExt cx="95040" cy="25236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rot="10800000">
                  <a:off x="1944360" y="5226480"/>
                  <a:ext cx="95040" cy="22104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rot="10800000">
                  <a:off x="1944360" y="5384160"/>
                  <a:ext cx="95040" cy="9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564200" y="5226480"/>
                <a:ext cx="95040" cy="252360"/>
                <a:chOff x="1564200" y="5226480"/>
                <a:chExt cx="95040" cy="252360"/>
              </a:xfrm>
            </p:grpSpPr>
            <p:sp>
              <p:nvSpPr>
                <p:cNvPr id="230" name=""/>
                <p:cNvSpPr/>
                <p:nvPr/>
              </p:nvSpPr>
              <p:spPr>
                <a:xfrm flipH="1" rot="10800000">
                  <a:off x="1564200" y="5226480"/>
                  <a:ext cx="95040" cy="22104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rot="10800000">
                  <a:off x="1564200" y="5384160"/>
                  <a:ext cx="95040" cy="9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437480" y="5226120"/>
                <a:ext cx="95040" cy="221400"/>
              </a:xfrm>
              <a:prstGeom prst="rect">
                <a:avLst/>
              </a:prstGeom>
              <a:solidFill>
                <a:srgbClr val="0f116a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690920" y="5226480"/>
                <a:ext cx="95040" cy="252360"/>
                <a:chOff x="1690920" y="5226480"/>
                <a:chExt cx="95040" cy="25236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1690920" y="5226480"/>
                  <a:ext cx="95040" cy="221040"/>
                </a:xfrm>
                <a:prstGeom prst="rect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1690920" y="5383800"/>
                  <a:ext cx="95040" cy="94680"/>
                </a:xfrm>
                <a:prstGeom prst="ellipse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197800" y="5226480"/>
                <a:ext cx="95040" cy="252360"/>
                <a:chOff x="2197800" y="5226480"/>
                <a:chExt cx="95040" cy="25236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2197800" y="5226480"/>
                  <a:ext cx="95040" cy="221040"/>
                </a:xfrm>
                <a:prstGeom prst="rect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2197800" y="5383800"/>
                  <a:ext cx="95040" cy="94680"/>
                </a:xfrm>
                <a:prstGeom prst="ellipse">
                  <a:avLst/>
                </a:prstGeom>
                <a:solidFill>
                  <a:srgbClr val="ffcc18"/>
                </a:solidFill>
                <a:ln w="9360">
                  <a:solidFill>
                    <a:srgbClr val="ffcc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071080" y="5226120"/>
                <a:ext cx="95040" cy="221400"/>
              </a:xfrm>
              <a:prstGeom prst="rect">
                <a:avLst/>
              </a:prstGeom>
              <a:solidFill>
                <a:srgbClr val="0f116a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51240" y="5231520"/>
                <a:ext cx="95040" cy="221400"/>
              </a:xfrm>
              <a:prstGeom prst="rect">
                <a:avLst/>
              </a:prstGeom>
              <a:solidFill>
                <a:srgbClr val="0f116a"/>
              </a:solidFill>
              <a:ln w="9360">
                <a:solidFill>
                  <a:srgbClr val="0f11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37480" y="5131440"/>
                <a:ext cx="1108800" cy="101160"/>
              </a:xfrm>
              <a:prstGeom prst="rect">
                <a:avLst/>
              </a:prstGeom>
              <a:solidFill>
                <a:srgbClr val="660000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3720" y="5472720"/>
              <a:ext cx="94680" cy="252360"/>
              <a:chOff x="423720" y="5472720"/>
              <a:chExt cx="94680" cy="252360"/>
            </a:xfrm>
          </p:grpSpPr>
          <p:sp>
            <p:nvSpPr>
              <p:cNvPr id="243" name=""/>
              <p:cNvSpPr/>
              <p:nvPr/>
            </p:nvSpPr>
            <p:spPr>
              <a:xfrm>
                <a:off x="42372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372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803880" y="5472720"/>
              <a:ext cx="94680" cy="252360"/>
              <a:chOff x="803880" y="5472720"/>
              <a:chExt cx="94680" cy="252360"/>
            </a:xfrm>
          </p:grpSpPr>
          <p:sp>
            <p:nvSpPr>
              <p:cNvPr id="246" name=""/>
              <p:cNvSpPr/>
              <p:nvPr/>
            </p:nvSpPr>
            <p:spPr>
              <a:xfrm>
                <a:off x="80388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388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564200" y="5472720"/>
              <a:ext cx="94680" cy="252360"/>
              <a:chOff x="1564200" y="5472720"/>
              <a:chExt cx="94680" cy="252360"/>
            </a:xfrm>
          </p:grpSpPr>
          <p:sp>
            <p:nvSpPr>
              <p:cNvPr id="249" name=""/>
              <p:cNvSpPr/>
              <p:nvPr/>
            </p:nvSpPr>
            <p:spPr>
              <a:xfrm>
                <a:off x="156420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6420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944360" y="5472720"/>
              <a:ext cx="94680" cy="252360"/>
              <a:chOff x="1944360" y="5472720"/>
              <a:chExt cx="94680" cy="252360"/>
            </a:xfrm>
          </p:grpSpPr>
          <p:sp>
            <p:nvSpPr>
              <p:cNvPr id="252" name=""/>
              <p:cNvSpPr/>
              <p:nvPr/>
            </p:nvSpPr>
            <p:spPr>
              <a:xfrm>
                <a:off x="194436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4436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324520" y="5472720"/>
              <a:ext cx="94680" cy="252360"/>
              <a:chOff x="2324520" y="5472720"/>
              <a:chExt cx="94680" cy="252360"/>
            </a:xfrm>
          </p:grpSpPr>
          <p:sp>
            <p:nvSpPr>
              <p:cNvPr id="255" name=""/>
              <p:cNvSpPr/>
              <p:nvPr/>
            </p:nvSpPr>
            <p:spPr>
              <a:xfrm>
                <a:off x="232452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2452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704680" y="5472720"/>
              <a:ext cx="94680" cy="252360"/>
              <a:chOff x="2704680" y="5472720"/>
              <a:chExt cx="94680" cy="252360"/>
            </a:xfrm>
          </p:grpSpPr>
          <p:sp>
            <p:nvSpPr>
              <p:cNvPr id="258" name=""/>
              <p:cNvSpPr/>
              <p:nvPr/>
            </p:nvSpPr>
            <p:spPr>
              <a:xfrm>
                <a:off x="270468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0468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38280" y="5472720"/>
              <a:ext cx="94680" cy="252360"/>
              <a:chOff x="3338280" y="5472720"/>
              <a:chExt cx="94680" cy="252360"/>
            </a:xfrm>
          </p:grpSpPr>
          <p:sp>
            <p:nvSpPr>
              <p:cNvPr id="261" name=""/>
              <p:cNvSpPr/>
              <p:nvPr/>
            </p:nvSpPr>
            <p:spPr>
              <a:xfrm>
                <a:off x="3338280" y="5504040"/>
                <a:ext cx="94680" cy="221040"/>
              </a:xfrm>
              <a:prstGeom prst="rect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38280" y="5472720"/>
                <a:ext cx="94680" cy="94680"/>
              </a:xfrm>
              <a:prstGeom prst="ellipse">
                <a:avLst/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412720" y="4902840"/>
              <a:ext cx="330120" cy="329760"/>
              <a:chOff x="2412720" y="4902840"/>
              <a:chExt cx="330120" cy="329760"/>
            </a:xfrm>
          </p:grpSpPr>
          <p:sp>
            <p:nvSpPr>
              <p:cNvPr id="264" name=""/>
              <p:cNvSpPr/>
              <p:nvPr/>
            </p:nvSpPr>
            <p:spPr>
              <a:xfrm rot="20262000">
                <a:off x="2450880" y="4941360"/>
                <a:ext cx="253080" cy="252720"/>
              </a:xfrm>
              <a:prstGeom prst="sun">
                <a:avLst>
                  <a:gd name="adj" fmla="val 25000"/>
                </a:avLst>
              </a:prstGeom>
              <a:solidFill>
                <a:srgbClr val="ffea18"/>
              </a:solidFill>
              <a:ln w="2844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51240" y="4941720"/>
                <a:ext cx="253080" cy="252720"/>
              </a:xfrm>
              <a:prstGeom prst="sun">
                <a:avLst>
                  <a:gd name="adj" fmla="val 25000"/>
                </a:avLst>
              </a:prstGeom>
              <a:solidFill>
                <a:srgbClr val="ca00ca"/>
              </a:solidFill>
              <a:ln w="28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615760" y="5024880"/>
              <a:ext cx="100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labeled prob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73800" y="5245560"/>
              <a:ext cx="101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genomic DN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47120" y="5175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7816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7760" y="517572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520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6048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78920" y="5175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13920" y="517572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35600" y="5175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4840" y="517572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288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83920" y="553140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200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31600" y="553140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66600" y="553140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324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0996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1360" y="5531400"/>
              <a:ext cx="25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8800" y="55314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89D-9142-46C9-B877-313AAC4C663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86200" y="3544920"/>
            <a:ext cx="5160960" cy="1865160"/>
            <a:chOff x="3886200" y="3544920"/>
            <a:chExt cx="5160960" cy="186516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3886200" y="3544920"/>
              <a:ext cx="51609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724280" y="3544920"/>
              <a:ext cx="0" cy="182880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429000" y="3048120"/>
            <a:ext cx="1295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f you want to find out the full sequence of the human insulin gen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anger sequencing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deoxynucleotid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rcRect l="0" t="0" r="0" b="4337"/>
          <a:stretch/>
        </p:blipFill>
        <p:spPr>
          <a:xfrm>
            <a:off x="304920" y="3505320"/>
            <a:ext cx="4419360" cy="3181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B17-E91F-4931-939E-79C08F08503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if you want to make a lot of copies of your sequenced gen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C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rmocycl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imer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aq polymeras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2250" r="0" b="2250"/>
          <a:stretch/>
        </p:blipFill>
        <p:spPr>
          <a:xfrm>
            <a:off x="4165560" y="3470400"/>
            <a:ext cx="4978440" cy="32353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>
            <a:lum contrast="20000"/>
          </a:blip>
          <a:srcRect l="4500" t="18001" r="18000" b="12000"/>
          <a:stretch/>
        </p:blipFill>
        <p:spPr>
          <a:xfrm>
            <a:off x="228600" y="4114800"/>
            <a:ext cx="3809880" cy="2583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862D-ADC4-4FE4-9929-136CEB9C58E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You want to see if 2 people have differences in their insulin gene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l electrophoresis &amp; RFL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striction diges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un samples on g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ee if there is a polymorphis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51751" t="2252" r="6750" b="55504"/>
          <a:stretch/>
        </p:blipFill>
        <p:spPr>
          <a:xfrm>
            <a:off x="533520" y="4038480"/>
            <a:ext cx="3539880" cy="27054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4133880" y="4183200"/>
            <a:ext cx="4857840" cy="2522520"/>
            <a:chOff x="4133880" y="4183200"/>
            <a:chExt cx="4857840" cy="252252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rcRect l="42302" t="12128" r="1800" b="9697"/>
            <a:stretch/>
          </p:blipFill>
          <p:spPr>
            <a:xfrm>
              <a:off x="4133880" y="4183200"/>
              <a:ext cx="485784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248520" y="6553440"/>
              <a:ext cx="380880" cy="152280"/>
            </a:xfrm>
            <a:prstGeom prst="rect">
              <a:avLst/>
            </a:prstGeom>
            <a:solidFill>
              <a:srgbClr val="e3d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458200" y="640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CBE-6ED8-4989-BAB2-927A18AAE38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23:22:49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6-03-27T04:55:45Z</cp:lastPrinted>
  <dcterms:modified xsi:type="dcterms:W3CDTF">2007-01-28T18:27:24Z</dcterms:modified>
  <cp:revision>105</cp:revision>
  <dc:subject>AP &amp; Regents Biology</dc:subject>
  <dc:title>Advanced Techniques</dc:title>
</cp:coreProperties>
</file>